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74A8-246A-4F03-9CE8-993598491A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ajeev Alur, David L. Di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4921-5F32-48EE-9E55-37ECDC7D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76B-19D9-4A0A-AD39-A7D164C9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156A-101A-47AC-8D4F-236FA9B5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8AB-14C6-4819-9B90-E68A4DEB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EE0E-CA5B-41B7-9729-A610C1DB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9619-77BD-4BFB-AEA1-15D8C3D0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9E82-9E56-4774-8D66-A9D2C25A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D7B3-77BA-4AE4-B5B2-EB808DEC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70F9-DA04-4D55-B0CA-DF7EB93B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8DA7-97DB-4F72-8E3A-36530D43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7C41-9A99-4FF1-AB30-BB7152C3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0EA-4DA8-4B80-B69E-A4809E7E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3676-1ED2-4D8D-AF26-DC5B9224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01DD-2BBB-45E2-AC1B-89CDBAA0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8ACF-CC90-4E40-AC89-ACEAF874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2877-DFE3-4B06-99AF-FD970031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6995-9BF6-4BC4-BD63-3EC171B2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5F4-4DD8-4B9A-94B2-037B7958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3D9E-ACD7-4409-B5F5-F28DF835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CDF-A9F5-439A-8E00-4CE3467E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5CD-3960-4A9C-AA4D-660D3D68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F3FC-6D51-41E2-A930-A5DDE683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131-65F4-4812-9672-3CFC89E3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CC6-AD3B-446E-BBB4-89DA5E44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1935-4A72-49D7-B548-3188799AA6B7}" type="slidenum"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E3CC-4C6A-49D7-9B36-C1BA38B01949}" type="slidenum"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Timed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40384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00400" y="19810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181296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25304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1965960" y="6061680"/>
            <a:ext cx="87120" cy="800280"/>
          </a:xfrm>
          <a:custGeom>
            <a:avLst/>
            <a:gdLst>
              <a:gd name="textAreaLeft" fmla="*/ 25560 w 87120"/>
              <a:gd name="textAreaRight" fmla="*/ 87480 w 87120"/>
              <a:gd name="textAreaTop" fmla="*/ 33120 h 800280"/>
              <a:gd name="textAreaBottom" fmla="*/ 76716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09200" y="6461280"/>
            <a:ext cx="8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51055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00400" y="19810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162920" y="18288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25304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1965960" y="6061680"/>
            <a:ext cx="87120" cy="800280"/>
          </a:xfrm>
          <a:custGeom>
            <a:avLst/>
            <a:gdLst>
              <a:gd name="textAreaLeft" fmla="*/ 25560 w 87120"/>
              <a:gd name="textAreaRight" fmla="*/ 87480 w 87120"/>
              <a:gd name="textAreaTop" fmla="*/ 33120 h 800280"/>
              <a:gd name="textAreaBottom" fmla="*/ 76716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09200" y="6461280"/>
            <a:ext cx="8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2826360" y="6072480"/>
            <a:ext cx="42840" cy="727200"/>
          </a:xfrm>
          <a:custGeom>
            <a:avLst/>
            <a:gdLst>
              <a:gd name="textAreaLeft" fmla="*/ 12600 w 42840"/>
              <a:gd name="textAreaRight" fmla="*/ 43200 w 42840"/>
              <a:gd name="textAreaTop" fmla="*/ 30240 h 727200"/>
              <a:gd name="textAreaBottom" fmla="*/ 696960 h 72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355840" y="643896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 rot="16200000">
            <a:off x="1965960" y="6061680"/>
            <a:ext cx="87120" cy="800280"/>
          </a:xfrm>
          <a:custGeom>
            <a:avLst/>
            <a:gdLst>
              <a:gd name="textAreaLeft" fmla="*/ 25560 w 87120"/>
              <a:gd name="textAreaRight" fmla="*/ 87480 w 87120"/>
              <a:gd name="textAreaTop" fmla="*/ 33120 h 800280"/>
              <a:gd name="textAreaBottom" fmla="*/ 76716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09200" y="6461280"/>
            <a:ext cx="8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51055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00400" y="19810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62920" y="28954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25304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2826360" y="6072480"/>
            <a:ext cx="42840" cy="727200"/>
          </a:xfrm>
          <a:custGeom>
            <a:avLst/>
            <a:gdLst>
              <a:gd name="textAreaLeft" fmla="*/ 12600 w 42840"/>
              <a:gd name="textAreaRight" fmla="*/ 43200 w 42840"/>
              <a:gd name="textAreaTop" fmla="*/ 30240 h 727200"/>
              <a:gd name="textAreaBottom" fmla="*/ 696960 h 72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55840" y="643896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3204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257800" y="51055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0" y="29718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142040" y="29052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16200000">
            <a:off x="2854080" y="5168520"/>
            <a:ext cx="42840" cy="2604960"/>
          </a:xfrm>
          <a:custGeom>
            <a:avLst/>
            <a:gdLst>
              <a:gd name="textAreaLeft" fmla="*/ 12600 w 42840"/>
              <a:gd name="textAreaRight" fmla="*/ 43200 w 42840"/>
              <a:gd name="textAreaTop" fmla="*/ 108360 h 2604960"/>
              <a:gd name="textAreaBottom" fmla="*/ 2496600 h 26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95600" y="646128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728880" y="509436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85920" y="199224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42040" y="29052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16200000">
            <a:off x="3450960" y="4549320"/>
            <a:ext cx="65160" cy="3821040"/>
          </a:xfrm>
          <a:custGeom>
            <a:avLst/>
            <a:gdLst>
              <a:gd name="textAreaLeft" fmla="*/ 19080 w 65160"/>
              <a:gd name="textAreaRight" fmla="*/ 65160 w 65160"/>
              <a:gd name="textAreaTop" fmla="*/ 159120 h 3821040"/>
              <a:gd name="textAreaBottom" fmla="*/ 3661920 h 382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991600" y="6462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 &amp; 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rot="16200000">
            <a:off x="5781600" y="6216120"/>
            <a:ext cx="74520" cy="604800"/>
          </a:xfrm>
          <a:custGeom>
            <a:avLst/>
            <a:gdLst>
              <a:gd name="textAreaLeft" fmla="*/ 21960 w 74520"/>
              <a:gd name="textAreaRight" fmla="*/ 74880 w 74520"/>
              <a:gd name="textAreaTop" fmla="*/ 25200 h 604800"/>
              <a:gd name="textAreaBottom" fmla="*/ 579600 h 6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416920" y="64612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5398920" y="593568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060520" y="556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494320" y="6296040"/>
            <a:ext cx="61920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3450960" y="4549320"/>
            <a:ext cx="65160" cy="3821040"/>
          </a:xfrm>
          <a:custGeom>
            <a:avLst/>
            <a:gdLst>
              <a:gd name="textAreaLeft" fmla="*/ 19080 w 65160"/>
              <a:gd name="textAreaRight" fmla="*/ 65160 w 65160"/>
              <a:gd name="textAreaTop" fmla="*/ 159120 h 3821040"/>
              <a:gd name="textAreaBottom" fmla="*/ 3661920 h 382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991600" y="6462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 &amp; 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740040" y="39862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85920" y="199224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572080" y="286236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16200000">
            <a:off x="5781600" y="6216120"/>
            <a:ext cx="74520" cy="604800"/>
          </a:xfrm>
          <a:custGeom>
            <a:avLst/>
            <a:gdLst>
              <a:gd name="textAreaLeft" fmla="*/ 21960 w 74520"/>
              <a:gd name="textAreaRight" fmla="*/ 74880 w 74520"/>
              <a:gd name="textAreaTop" fmla="*/ 25200 h 604800"/>
              <a:gd name="textAreaBottom" fmla="*/ 579600 h 6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416920" y="64612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5398920" y="593568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060520" y="556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494320" y="6296040"/>
            <a:ext cx="61920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6153120" y="5936760"/>
            <a:ext cx="0" cy="38124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813640" y="5570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6211800" y="6286680"/>
            <a:ext cx="898560" cy="28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3490920" y="4587480"/>
            <a:ext cx="42840" cy="3767400"/>
          </a:xfrm>
          <a:custGeom>
            <a:avLst/>
            <a:gdLst>
              <a:gd name="textAreaLeft" fmla="*/ 12600 w 42840"/>
              <a:gd name="textAreaRight" fmla="*/ 43200 w 42840"/>
              <a:gd name="textAreaTop" fmla="*/ 156960 h 3767400"/>
              <a:gd name="textAreaBottom" fmla="*/ 3610440 h 376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047040" y="6462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 &amp; 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740040" y="39862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285920" y="199224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583240" y="18082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5398920" y="593568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060520" y="556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5494320" y="6296040"/>
            <a:ext cx="61920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rot="16200000">
            <a:off x="5773680" y="6154200"/>
            <a:ext cx="74520" cy="604800"/>
          </a:xfrm>
          <a:custGeom>
            <a:avLst/>
            <a:gdLst>
              <a:gd name="textAreaLeft" fmla="*/ 21960 w 74520"/>
              <a:gd name="textAreaRight" fmla="*/ 74880 w 74520"/>
              <a:gd name="textAreaTop" fmla="*/ 25200 h 604800"/>
              <a:gd name="textAreaBottom" fmla="*/ 579600 h 6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153120" y="5936760"/>
            <a:ext cx="0" cy="38124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813640" y="5570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364720" y="64213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6211800" y="6286680"/>
            <a:ext cx="898560" cy="28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1280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789240" y="5560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6200000">
            <a:off x="6629400" y="5994360"/>
            <a:ext cx="85680" cy="927360"/>
          </a:xfrm>
          <a:custGeom>
            <a:avLst/>
            <a:gdLst>
              <a:gd name="textAreaLeft" fmla="*/ 25200 w 85680"/>
              <a:gd name="textAreaRight" fmla="*/ 86040 w 85680"/>
              <a:gd name="textAreaTop" fmla="*/ 38520 h 927360"/>
              <a:gd name="textAreaBottom" fmla="*/ 888840 h 9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168960" y="640548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y &gt;= 1 &amp; y&lt;=2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7192800" y="6276600"/>
            <a:ext cx="898560" cy="32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l Definition of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28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A timed automata is a tuple &lt;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  <a:ea typeface="Arial"/>
              </a:rPr>
              <a:t>∑, S, S</a:t>
            </a:r>
            <a:r>
              <a:rPr b="0" lang="zh-CN" sz="24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0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  <a:ea typeface="Arial"/>
              </a:rPr>
              <a:t>, C, E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&gt;, wher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∑ 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is a finite set of alphabe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 is a finite set of sta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</a:t>
            </a:r>
            <a:r>
              <a:rPr b="0" lang="zh-CN" sz="20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0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     S is the set of start sta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C is a finite set of clock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E                                    is a set of transitions. An edge &lt;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, s’, a,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λ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,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&gt; represents a transition from 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to 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’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on input 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a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under the clock constraint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.  The clocks in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λ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will be reset in the transition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133720" y="426708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2209680" y="35053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514600" y="4267080"/>
                <a:ext cx="20574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Σ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king Properties of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Emptiness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(reachability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Decidable, P-Space comple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Universality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(negatio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Undecidab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But 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deterministic TA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is 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closed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under all the boolean operat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Given a system as a collection of TA and a property as a deterministic TA, checking the system satisfies the specification can be done in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 P-Spa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 the train-gate syste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afety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 whenever the train is inside the gate, the gate should be clo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05120" y="4876920"/>
            <a:ext cx="83808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781680" y="4876920"/>
            <a:ext cx="83844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419720" y="4876920"/>
            <a:ext cx="83808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523880" y="5181480"/>
            <a:ext cx="3812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743200" y="4724280"/>
            <a:ext cx="1676520" cy="304920"/>
          </a:xfrm>
          <a:custGeom>
            <a:avLst/>
            <a:gdLst/>
            <a:ahLst/>
            <a:rect l="l" t="t" r="r" b="b"/>
            <a:pathLst>
              <a:path w="1056" h="192">
                <a:moveTo>
                  <a:pt x="0" y="192"/>
                </a:moveTo>
                <a:cubicBezTo>
                  <a:pt x="176" y="96"/>
                  <a:pt x="352" y="0"/>
                  <a:pt x="528" y="0"/>
                </a:cubicBezTo>
                <a:cubicBezTo>
                  <a:pt x="704" y="0"/>
                  <a:pt x="1040" y="120"/>
                  <a:pt x="1056" y="19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257800" y="4724280"/>
            <a:ext cx="1523880" cy="30492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192"/>
                </a:moveTo>
                <a:cubicBezTo>
                  <a:pt x="184" y="96"/>
                  <a:pt x="368" y="0"/>
                  <a:pt x="528" y="0"/>
                </a:cubicBezTo>
                <a:cubicBezTo>
                  <a:pt x="688" y="0"/>
                  <a:pt x="824" y="96"/>
                  <a:pt x="960" y="19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743200" y="5257800"/>
            <a:ext cx="1676520" cy="304920"/>
          </a:xfrm>
          <a:custGeom>
            <a:avLst/>
            <a:gdLst/>
            <a:ahLst/>
            <a:rect l="l" t="t" r="r" b="b"/>
            <a:pathLst>
              <a:path w="1056" h="192">
                <a:moveTo>
                  <a:pt x="0" y="0"/>
                </a:moveTo>
                <a:cubicBezTo>
                  <a:pt x="176" y="96"/>
                  <a:pt x="352" y="192"/>
                  <a:pt x="528" y="192"/>
                </a:cubicBezTo>
                <a:cubicBezTo>
                  <a:pt x="704" y="192"/>
                  <a:pt x="880" y="96"/>
                  <a:pt x="1056" y="0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257800" y="5257800"/>
            <a:ext cx="1523880" cy="2286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0"/>
                </a:moveTo>
                <a:cubicBezTo>
                  <a:pt x="212" y="72"/>
                  <a:pt x="424" y="144"/>
                  <a:pt x="576" y="144"/>
                </a:cubicBezTo>
                <a:cubicBezTo>
                  <a:pt x="728" y="144"/>
                  <a:pt x="820" y="72"/>
                  <a:pt x="912" y="0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828800" y="4343400"/>
            <a:ext cx="914400" cy="53352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240" y="336"/>
                </a:moveTo>
                <a:cubicBezTo>
                  <a:pt x="120" y="216"/>
                  <a:pt x="0" y="96"/>
                  <a:pt x="48" y="48"/>
                </a:cubicBezTo>
                <a:cubicBezTo>
                  <a:pt x="96" y="0"/>
                  <a:pt x="480" y="0"/>
                  <a:pt x="528" y="48"/>
                </a:cubicBezTo>
                <a:cubicBezTo>
                  <a:pt x="576" y="96"/>
                  <a:pt x="456" y="216"/>
                  <a:pt x="336" y="336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330800" y="4267080"/>
            <a:ext cx="888840" cy="609840"/>
          </a:xfrm>
          <a:custGeom>
            <a:avLst/>
            <a:gdLst/>
            <a:ahLst/>
            <a:rect l="l" t="t" r="r" b="b"/>
            <a:pathLst>
              <a:path w="560" h="384">
                <a:moveTo>
                  <a:pt x="200" y="384"/>
                </a:moveTo>
                <a:cubicBezTo>
                  <a:pt x="100" y="296"/>
                  <a:pt x="0" y="208"/>
                  <a:pt x="8" y="144"/>
                </a:cubicBezTo>
                <a:cubicBezTo>
                  <a:pt x="16" y="80"/>
                  <a:pt x="160" y="0"/>
                  <a:pt x="248" y="0"/>
                </a:cubicBezTo>
                <a:cubicBezTo>
                  <a:pt x="336" y="0"/>
                  <a:pt x="512" y="80"/>
                  <a:pt x="536" y="144"/>
                </a:cubicBezTo>
                <a:cubicBezTo>
                  <a:pt x="560" y="208"/>
                  <a:pt x="476" y="296"/>
                  <a:pt x="392" y="384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671840" y="39988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enter, ~dow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98000" y="437976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wn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034080" y="54468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p, ~en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325760" y="39225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enter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624640" y="43797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nter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691240" y="54244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it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d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timed system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is a system whose correctness depends on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iming constraint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Formal analysi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of timed syste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scribe systems with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pecify properties about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eck conforma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Realtime liveness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: the gate is never closed at a stretch for more than 10 minu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8800" y="4419720"/>
            <a:ext cx="1295280" cy="7617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86400" y="4419720"/>
            <a:ext cx="1295280" cy="7617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971800" y="4178160"/>
            <a:ext cx="2590920" cy="393840"/>
          </a:xfrm>
          <a:custGeom>
            <a:avLst/>
            <a:gdLst/>
            <a:ahLst/>
            <a:rect l="l" t="t" r="r" b="b"/>
            <a:pathLst>
              <a:path w="1632" h="248">
                <a:moveTo>
                  <a:pt x="0" y="200"/>
                </a:moveTo>
                <a:cubicBezTo>
                  <a:pt x="296" y="100"/>
                  <a:pt x="592" y="0"/>
                  <a:pt x="864" y="8"/>
                </a:cubicBezTo>
                <a:cubicBezTo>
                  <a:pt x="1136" y="16"/>
                  <a:pt x="1384" y="132"/>
                  <a:pt x="1632" y="248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95480" y="5029200"/>
            <a:ext cx="2667240" cy="393840"/>
          </a:xfrm>
          <a:custGeom>
            <a:avLst/>
            <a:gdLst/>
            <a:ahLst/>
            <a:rect l="l" t="t" r="r" b="b"/>
            <a:pathLst>
              <a:path w="1680" h="248">
                <a:moveTo>
                  <a:pt x="0" y="48"/>
                </a:moveTo>
                <a:cubicBezTo>
                  <a:pt x="316" y="148"/>
                  <a:pt x="632" y="248"/>
                  <a:pt x="912" y="240"/>
                </a:cubicBezTo>
                <a:cubicBezTo>
                  <a:pt x="1192" y="232"/>
                  <a:pt x="1436" y="116"/>
                  <a:pt x="1680" y="0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866960" y="3733920"/>
            <a:ext cx="1054080" cy="685800"/>
          </a:xfrm>
          <a:custGeom>
            <a:avLst/>
            <a:gdLst/>
            <a:ahLst/>
            <a:rect l="l" t="t" r="r" b="b"/>
            <a:pathLst>
              <a:path w="664" h="432">
                <a:moveTo>
                  <a:pt x="216" y="432"/>
                </a:moveTo>
                <a:cubicBezTo>
                  <a:pt x="108" y="324"/>
                  <a:pt x="0" y="216"/>
                  <a:pt x="24" y="144"/>
                </a:cubicBezTo>
                <a:cubicBezTo>
                  <a:pt x="48" y="72"/>
                  <a:pt x="256" y="0"/>
                  <a:pt x="360" y="0"/>
                </a:cubicBezTo>
                <a:cubicBezTo>
                  <a:pt x="464" y="0"/>
                  <a:pt x="632" y="72"/>
                  <a:pt x="648" y="144"/>
                </a:cubicBezTo>
                <a:cubicBezTo>
                  <a:pt x="664" y="216"/>
                  <a:pt x="560" y="324"/>
                  <a:pt x="456" y="43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562720" y="3797280"/>
            <a:ext cx="876240" cy="622440"/>
          </a:xfrm>
          <a:custGeom>
            <a:avLst/>
            <a:gdLst/>
            <a:ahLst/>
            <a:rect l="l" t="t" r="r" b="b"/>
            <a:pathLst>
              <a:path w="552" h="392">
                <a:moveTo>
                  <a:pt x="240" y="392"/>
                </a:moveTo>
                <a:cubicBezTo>
                  <a:pt x="120" y="304"/>
                  <a:pt x="0" y="216"/>
                  <a:pt x="0" y="152"/>
                </a:cubicBezTo>
                <a:cubicBezTo>
                  <a:pt x="0" y="88"/>
                  <a:pt x="152" y="16"/>
                  <a:pt x="240" y="8"/>
                </a:cubicBezTo>
                <a:cubicBezTo>
                  <a:pt x="328" y="0"/>
                  <a:pt x="504" y="40"/>
                  <a:pt x="528" y="104"/>
                </a:cubicBezTo>
                <a:cubicBezTo>
                  <a:pt x="552" y="168"/>
                  <a:pt x="468" y="280"/>
                  <a:pt x="384" y="39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906920" y="342900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 dow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338640" y="384660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wn, x:=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564160" y="35053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 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795120" y="534816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p, x &lt; 1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4800600"/>
            <a:ext cx="380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Works on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Extension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x + y ([Bérard,Dufourd 2000]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x – y, Silence action ([Bérard,Diekert,Gastin,Petit 1998]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New operations on clocks ([Bouyer,Dufourd,Fleury,Petit 2000]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Implementatio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Forward/backward reachability analysi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[Alur &amp; Co 1992], [Daws,Yovine 1996], [Larsen,Pettersson,Yi 1997], [Daws,Tripakis 1998], [Tripakis,Yovine 2001]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52280" y="1940040"/>
            <a:ext cx="87631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ACD+92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Alur, Courcoubetis, Dill, Halbwachs,Wong-Toi. Minimization of Timed Transition  Systems. CONCUR'92 (LNCS 630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AD94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Alur, Dill. A Theory of Timed Automata. TCS 126(2), 1994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00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érard, Dufourd. Timed Automata and Additive Clock Constraints. IPL 75(1.2), 2000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FP00a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ouyer, Dufourd, Fleury, Petit. Are Timed Automata Updatable? CAV'00 (LNCS 1855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FP00b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ouyer, Dufourd, Fleury, Petit. Expressiveness of Updatable Timed Automata. MFCS'00 (LNCS 1893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GP98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érard, Diekert, Gastin, Petit. Characterization of the Expressive Power of Silent Transitions in Timed Automata. Fundamenta Informaticae 36(2.3), 1998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ouyer03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ouyer. Untameable Timed Automata! To appear in STACS'03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DT98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Daws, Tripakis. Model-Checking of Real-Time Reachability Properties using Abstractions. TACAS'98 (LNCS 1384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DY96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Daws, Yovine. Reducing the Number of Clock Variables of Timed Automata. RTSS'96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LPY97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Larsen, Pettersson, Yi. UPPAAL in a Nutshell. Software Tools for Technology Transfer 1(1.2), 1997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971800" y="2819520"/>
            <a:ext cx="3962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Thank you!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And Questions?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emantic Model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iscrete tim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 integer (RT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ense Tim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 positive real (Timed Automata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nse tim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atural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r physical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dependent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of a specific time unit or time granularity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finite state spac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 But there exist methods reduce the infinite concrete state space to finite abstract state sp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A timed automat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Alur, Dill. A Theory of Timed Automata. TCS 126(2), 199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Is a 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non-deterministic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finite-state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 automata extended with a finite number of real-valued 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clocks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Alternates between two modes of execution, letting time pass continuously, then taking a step changing its discrete stat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81280" y="2514600"/>
            <a:ext cx="6858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514600"/>
            <a:ext cx="6858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5146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2514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,  x ≤ 5,  x := 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ittle more about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4267080"/>
            <a:ext cx="766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  <a:ea typeface="Arial"/>
              </a:rPr>
              <a:t>A 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Arial"/>
              </a:rPr>
              <a:t>clock constraint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  <a:ea typeface="Arial"/>
              </a:rPr>
              <a:t> 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  <a:ea typeface="Arial"/>
              </a:rPr>
              <a:t>X ≤ c | c ≤ X | ¬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  <a:ea typeface="Arial"/>
              </a:rPr>
              <a:t> |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8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1 </a:t>
            </a:r>
            <a:r>
              <a:rPr b="0" i="1" lang="zh-CN" sz="2800" spc="-1" strike="noStrike">
                <a:solidFill>
                  <a:srgbClr val="292929"/>
                </a:solidFill>
                <a:latin typeface="Arial"/>
                <a:ea typeface="Arial"/>
              </a:rPr>
              <a:t>&amp;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8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666880"/>
            <a:ext cx="1295280" cy="6098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2666880"/>
            <a:ext cx="1295640" cy="6098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3" idx="6"/>
            <a:endCxn id="114" idx="2"/>
          </p:cNvCxnSpPr>
          <p:nvPr/>
        </p:nvCxnSpPr>
        <p:spPr>
          <a:xfrm>
            <a:off x="2971440" y="2971440"/>
            <a:ext cx="2439000" cy="1080"/>
          </a:xfrm>
          <a:prstGeom prst="straightConnector1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815480" y="18288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nput symbo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4160" y="18288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lock constrai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82360" y="34653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lock rese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2209680"/>
            <a:ext cx="533160" cy="30492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885840" y="2133720"/>
            <a:ext cx="228600" cy="3808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800240" y="2895480"/>
            <a:ext cx="152280" cy="60984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a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system can be 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a collection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of timed automa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mponents proceed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 parall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ime and messages are assumed to pass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ynchronously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 all compon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e informal specification of system can be stated as follow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trai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nds a signal to the controlle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t least 2 minutes before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it enters the crossing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its the crossing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 more than 5 minutes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after sending the approaching signal and sends another signal to the controller upon existing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controller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commands the gate to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we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xactly 1 minute after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receiving the approaching signal from the train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ise again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 more than 1 minute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after receiving the existing signal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gat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ake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ess than 1 minut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o come down an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etween 1 and 2 minutes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o come up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772760" y="40989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9370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24987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4894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24987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75800" y="20415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4080" y="29559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1080" y="21178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2160" y="21178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9559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4760" y="25750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6880" y="40989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326088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265104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590560" y="287964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447920" y="287928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4040" y="341316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59600" y="341316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59600" y="23464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04040" y="23464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49080" y="2041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266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8000" y="2438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48720" y="32608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48000" y="24224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46800" y="295596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0920" y="30481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3120" y="27432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48000" y="36417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92840" y="249876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92880" y="27273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892480" y="364176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659560" y="27270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204156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73000" y="4876920"/>
            <a:ext cx="790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8160" y="54705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1800" y="425124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91240" y="518148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5622840"/>
            <a:ext cx="38088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56228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45561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45561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8480" y="4876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0400" y="463248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90400" y="58514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470844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493704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038120" y="585144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809880" y="49366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4251240"/>
            <a:ext cx="3657600" cy="198144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04156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10040" y="3794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29920" y="1981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91880" y="36576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772760" y="3500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3387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1900080"/>
            <a:ext cx="38088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289080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0008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4080" y="23572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1080" y="1519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72160" y="15192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10040" y="3211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8120" y="2357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4760" y="19764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6880" y="3500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26622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05272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590560" y="2281320"/>
            <a:ext cx="685800" cy="7617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1447920" y="2281320"/>
            <a:ext cx="761760" cy="7617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04040" y="281448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59600" y="281448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59600" y="174780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04040" y="174780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9080" y="1442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238880" y="2084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54320" y="2008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48720" y="26622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48000" y="18241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3120" y="2281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48000" y="30430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92840" y="19000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92880" y="21286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892480" y="30430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659560" y="21283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14428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80920" y="4294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68160" y="4871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61800" y="365292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502452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502452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395748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3957480"/>
            <a:ext cx="38088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75480" y="42940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90400" y="40338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90400" y="525312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411012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3387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038120" y="525312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809880" y="43383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365292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14428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0338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19764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18241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5800" y="1442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17478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452268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254160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58320" y="25257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46800" y="23130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3600" y="13827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15560" y="30592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8480" y="461340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ng Chen</cp:lastModifiedBy>
  <dcterms:modified xsi:type="dcterms:W3CDTF">2006-07-31T18:44:2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